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1A2-998E-422B-AD3D-747E8EE9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3A02-E22A-468A-90AE-3C22056D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D921-D9D0-45A7-AA79-E735D4A5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12F-5C34-4755-956B-CFCCFC2D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05B-CA50-47C0-B978-38E18F95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805-A836-484E-9208-E0FFCADF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302E-B144-42E0-8299-F89E9CA5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539F-9AFA-45E0-B706-D8578215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1E5-001D-4295-9D7C-AD0C198D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E0E1-E191-4875-A069-DAF83EFD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C8B-6D77-40B8-AFF5-70AB9E30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BA68-3093-4541-8F5C-6AEDAA33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49FC-6532-4EBE-9901-5BD485A27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ewed random effects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Model Bui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e model in Section 14.2 of Skrondal and Rabe-Hesketh (2004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lized Latent Variable Modeling: Multilevel, Longitudinal and Structural Equation Mode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Chapman &amp; H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normal distribution with a skewed distribution for the random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4.2 Diet and heart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te measurement erro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37 middle aged men (bank, transport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requirement: weigh their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measurement for 76 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disease or no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 (numer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 (0,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de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osure model (true fiber intak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age*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~ 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d fiber intak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i="1" lang="nb-NO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i="1" lang="nb-NO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i="1" lang="nb-NO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32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~ 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ase mode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 = 0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t(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age*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λ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η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ing up and run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data in R: ”diet.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Compiling th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urier New"/>
              </a:rPr>
              <a:t>admb -re d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Running the model (Laplace approx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urier New"/>
              </a:rPr>
              <a:t>diet -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Running the model (Gauss-Hermite app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urier New"/>
              </a:rPr>
              <a:t>diet -est -gh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Skewed distributions fo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rondal and Rable-Hesk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distribution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non-parametric distribution (Fig. 14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Skewed distribution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[ex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-exp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/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 &lt;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~ 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qrt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(e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qrt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(1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sk021</cp:lastModifiedBy>
  <dcterms:modified xsi:type="dcterms:W3CDTF">2006-03-01T11:54:02Z</dcterms:modified>
  <cp:revision>52</cp:revision>
  <dc:subject/>
  <dc:title>PowerPoint Presentation</dc:title>
</cp:coreProperties>
</file>