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B8E6-C66A-417C-93AC-829676F81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3FEB-22F8-4D61-BF65-41644D1E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689B-EE3A-47C6-91E9-24238AC84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357E-C481-4866-A8CB-A83F701B4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8F0E-0651-4EEE-BC7E-EF03F914A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9081-5EFF-4176-AD66-8A2F31CBE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6D0E-478E-4E88-BA44-275BA6B18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6794-F626-4CDD-A538-787D07144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1C05-1E56-4BA9-AF2A-369CD87EB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4245-E52C-4DDD-BCFA-8634AA9A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3643-3AB5-4610-9D7D-3937A209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C062-1544-4333-A054-85B3468A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9660-F975-42CF-9624-1241A5B5D6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kewed random effects 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 Model Buil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yse model in Section 14.2 of Skrondal and Rabe-Hesketh (2004)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eneralized Latent Variable Modeling: Multilevel, Longitudinal and Structural Equation Mode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Chapman &amp; H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normal distribution with a skewed distribution for the random eff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4.2 Diet and heart dise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variate measurement error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37 middle aged men (bank, transport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requirement: weigh their f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eated measurement for 76 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rt disease or no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varia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e (numeri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s (0,1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 descri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osure model (true fiber intak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γ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e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γ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γ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age*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ζ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ζ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~ 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0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d fiber intake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,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l-G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α</a:t>
            </a:r>
            <a:r>
              <a:rPr b="0" i="1" lang="nb-NO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0" i="1" lang="nb-NO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nb-NO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nb-NO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nb-NO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-1</a:t>
            </a:r>
            <a:r>
              <a:rPr b="0" lang="nb-NO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i="1" lang="el-G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α</a:t>
            </a:r>
            <a:r>
              <a:rPr b="0" i="1" lang="nb-NO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32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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en-US" sz="32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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j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~ 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0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ease model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D = 0,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t(D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0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e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age*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λ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η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ting up and run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data in R: ”diet.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Times New Roman"/>
              </a:rPr>
              <a:t>Compiling the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ourier New"/>
              </a:rPr>
              <a:t>admb -re di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Times New Roman"/>
              </a:rPr>
              <a:t>Running the model (Laplace approx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ourier New"/>
              </a:rPr>
              <a:t>diet -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Times New Roman"/>
              </a:rPr>
              <a:t>Running the model (Gauss-Hermite appr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ourier New"/>
              </a:rPr>
              <a:t>diet -est -gh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Times New Roman"/>
              </a:rPr>
              <a:t>Skewed distributions for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rondal and Rable-Heske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Repla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0,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distribution 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ζ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non-parametric distribution (Fig. 14.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Times New Roman"/>
              </a:rPr>
              <a:t>Skewed distribution f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ζ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ζ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[exp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-exp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]/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/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 &lt;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lt;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~ 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0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sqrt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(e-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sqrt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(1-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sk021</cp:lastModifiedBy>
  <dcterms:modified xsi:type="dcterms:W3CDTF">2006-03-01T11:54:02Z</dcterms:modified>
  <cp:revision>52</cp:revision>
  <dc:subject/>
  <dc:title>PowerPoint Presentation</dc:title>
</cp:coreProperties>
</file>