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1BB-5CAC-4921-9BA6-9F7B4C9E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8BF-80DD-45D4-8C2E-39F04CA1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1DB-B6B4-46F7-AF12-A8353040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684-ADBC-4534-874B-BB755E9B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CD4-E9A2-46A4-B76A-385D8C58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954-A9EA-4CFD-84C8-886FC549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D7C-06B1-4816-9B74-6654DB26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A8F-0355-48C9-A71D-40365C1F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4DD-20B4-4909-8DA1-682320C6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36C-86AE-4B5A-A8CC-F6EE0F9B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4840-87E9-4BCB-B053-55C7EE7E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D3E-0584-4E92-A95B-87F4225C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DE27-5B10-402A-B2D3-E75DAC341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wed random effects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Model Bui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e model in Section 14.2 of Skrondal and Rabe-Hesketh (2004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lized Latent Variable Modeling: Multilevel, Longitudinal and Structural Equation Mod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Chapman &amp; H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normal distribution with a skewed distribution for the random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.2 Diet and heart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te measurement erro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37 middle aged men (bank, transport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requirement: weigh their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measurement for 76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disease or n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(numer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 (0,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sure model (true fiber inta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age*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~ 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d fiber intak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i="1" lang="nb-NO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i="1" lang="nb-NO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i="1" lang="nb-NO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32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~ 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ase mode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 = 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t(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age*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 up and run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data in R: ”diet.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Compiling th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urier New"/>
              </a:rPr>
              <a:t>admb -re d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Running the model (Laplace approx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urier New"/>
              </a:rPr>
              <a:t>diet -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Running the model (Gauss-Hermite app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urier New"/>
              </a:rPr>
              <a:t>diet -est -gh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Skewed distributions fo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rondal and Rable-Hesk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istribution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on-parametric distribution (Fig. 14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kewed distribution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[ex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-exp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/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&lt;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~ 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qrt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(e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qrt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(1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sk021</cp:lastModifiedBy>
  <dcterms:modified xsi:type="dcterms:W3CDTF">2006-03-01T11:54:02Z</dcterms:modified>
  <cp:revision>52</cp:revision>
  <dc:subject/>
  <dc:title>PowerPoint Presentation</dc:title>
</cp:coreProperties>
</file>